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wmf" ContentType="image/x-wmf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39A-E1A4-4684-8EC5-B8089CD0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D08-6EF5-4867-97A6-B316CAE9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8BE-8AFA-41D5-9737-CD2BE8F6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285-3598-4AD9-A352-F6B65E04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219-5279-410F-822E-04C82F2B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5DD-DD7A-42D1-BFDE-AD49488D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5F4-2DF7-45DE-9FC6-3B2184EC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4A8-F60B-4F4C-9D8B-D1C83114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384-9C60-4199-926B-0205E25C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A7C-8F50-43BC-889D-4DD1788A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8B3-6BA0-42BE-B984-9DE753F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D758-ACB4-4E16-823A-55870CD9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D7E7-4F6B-4131-9CAB-760F871EE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1_1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8153280" y="228600"/>
            <a:ext cx="75420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gerb_ur[1]"/>
          <p:cNvPicPr/>
          <p:nvPr/>
        </p:nvPicPr>
        <p:blipFill>
          <a:blip r:embed="rId3"/>
          <a:stretch/>
        </p:blipFill>
        <p:spPr>
          <a:xfrm>
            <a:off x="228600" y="228600"/>
            <a:ext cx="1066680" cy="1060560"/>
          </a:xfrm>
          <a:prstGeom prst="rect">
            <a:avLst/>
          </a:prstGeom>
          <a:ln w="0">
            <a:noFill/>
          </a:ln>
        </p:spPr>
      </p:pic>
      <p:sp>
        <p:nvSpPr>
          <p:cNvPr id="44" name="WordArt 10"/>
          <p:cNvSpPr txBox="1"/>
          <p:nvPr/>
        </p:nvSpPr>
        <p:spPr>
          <a:xfrm>
            <a:off x="3352680" y="6400800"/>
            <a:ext cx="2133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авож 2013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11"/>
          <p:cNvSpPr txBox="1"/>
          <p:nvPr/>
        </p:nvSpPr>
        <p:spPr>
          <a:xfrm>
            <a:off x="1371600" y="1828800"/>
            <a:ext cx="5867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Исполнение бюджета 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6" name="WordArt 13"/>
          <p:cNvSpPr txBox="1"/>
          <p:nvPr/>
        </p:nvSpPr>
        <p:spPr>
          <a:xfrm>
            <a:off x="304920" y="3124080"/>
            <a:ext cx="8610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муниципального образования «Вавожский район»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7" name="WordArt 15"/>
          <p:cNvSpPr txBox="1"/>
          <p:nvPr/>
        </p:nvSpPr>
        <p:spPr>
          <a:xfrm>
            <a:off x="1447920" y="152280"/>
            <a:ext cx="6476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07678" dir="18908128" blurRad="0" rotWithShape="0">
                    <a:srgbClr val="333333">
                      <a:alpha val="50000"/>
                    </a:srgbClr>
                  </a:outerShdw>
                </a:effectLst>
                <a:latin typeface="Impact"/>
              </a:rPr>
              <a:t>Вавожский район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107678" dir="18908128" blurRad="0" rotWithShape="0">
                  <a:srgbClr val="333333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17"/>
          <p:cNvSpPr txBox="1"/>
          <p:nvPr/>
        </p:nvSpPr>
        <p:spPr>
          <a:xfrm>
            <a:off x="2743200" y="4343400"/>
            <a:ext cx="3581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за 2012 год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8178840" y="152280"/>
            <a:ext cx="754200" cy="1143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3"/>
          <p:cNvSpPr txBox="1"/>
          <p:nvPr/>
        </p:nvSpPr>
        <p:spPr>
          <a:xfrm>
            <a:off x="228600" y="152280"/>
            <a:ext cx="6400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юджет муниципального образования "Вавожский район"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817"/>
          <p:cNvSpPr txBox="1"/>
          <p:nvPr/>
        </p:nvSpPr>
        <p:spPr>
          <a:xfrm>
            <a:off x="228600" y="609480"/>
            <a:ext cx="7848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ходы консолидированного бюджет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 «Вавожский район» за 2012 г. (%) 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собственные доходы)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371600" y="5486400"/>
            <a:ext cx="106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011 г.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8" name="Object 14" descr=""/>
          <p:cNvPicPr/>
          <p:nvPr/>
        </p:nvPicPr>
        <p:blipFill>
          <a:blip r:embed="rId4"/>
          <a:stretch/>
        </p:blipFill>
        <p:spPr>
          <a:xfrm>
            <a:off x="4724280" y="1828800"/>
            <a:ext cx="432144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WordArt 4"/>
          <p:cNvSpPr txBox="1"/>
          <p:nvPr/>
        </p:nvSpPr>
        <p:spPr>
          <a:xfrm>
            <a:off x="6553080" y="541008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012 г.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Object 16" descr=""/>
          <p:cNvPicPr/>
          <p:nvPr/>
        </p:nvPicPr>
        <p:blipFill>
          <a:blip r:embed="rId5"/>
          <a:stretch/>
        </p:blipFill>
        <p:spPr>
          <a:xfrm>
            <a:off x="77760" y="1828800"/>
            <a:ext cx="4505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178840" y="152280"/>
            <a:ext cx="75420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228600" y="152280"/>
            <a:ext cx="6400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юджет муниципального образования "Вавожский район"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228600" y="6858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ходы консолидированного бюджет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 «Вавожский район»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2012 г. (%)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Object 18" descr=""/>
          <p:cNvPicPr/>
          <p:nvPr/>
        </p:nvPicPr>
        <p:blipFill>
          <a:blip r:embed="rId4"/>
          <a:stretch/>
        </p:blipFill>
        <p:spPr>
          <a:xfrm>
            <a:off x="762120" y="1851120"/>
            <a:ext cx="77137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8178840" y="152280"/>
            <a:ext cx="75420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3"/>
          <p:cNvSpPr txBox="1"/>
          <p:nvPr/>
        </p:nvSpPr>
        <p:spPr>
          <a:xfrm>
            <a:off x="228600" y="152280"/>
            <a:ext cx="6400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юджет муниципального образования "Вавожский район"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380880" y="685800"/>
            <a:ext cx="7543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нение собственных доходов поселений (тыс. руб.)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295280"/>
          <a:ext cx="8839440" cy="5408640"/>
        </p:xfrm>
        <a:graphic>
          <a:graphicData uri="http://schemas.openxmlformats.org/drawingml/2006/table">
            <a:tbl>
              <a:tblPr/>
              <a:tblGrid>
                <a:gridCol w="2462400"/>
                <a:gridCol w="1274760"/>
                <a:gridCol w="1274760"/>
                <a:gridCol w="1276200"/>
                <a:gridCol w="1274760"/>
                <a:gridCol w="1276560"/>
              </a:tblGrid>
              <a:tr h="1316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аименование по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сполнено 2011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лан 2012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сполнено 2012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роцент исполнения 2012г. к 2011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роцент исполнения 2012 г. к плану 2012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Большеволков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Брызгалов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авож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8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одзимоньин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олипельгин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урезь-Пудгин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Зямбайгурт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акмож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юрдор-Котьин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ыловыл-Пельгин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того собственн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5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5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8178840" y="152280"/>
            <a:ext cx="7542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3"/>
          <p:cNvSpPr txBox="1"/>
          <p:nvPr/>
        </p:nvSpPr>
        <p:spPr>
          <a:xfrm>
            <a:off x="228600" y="152280"/>
            <a:ext cx="6400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юджет муниципального образования "Вавожский район"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80880" y="685800"/>
            <a:ext cx="7543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едиторская задолженность учреждений бюджетной сферы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280" y="1295280"/>
          <a:ext cx="8839440" cy="5564160"/>
        </p:xfrm>
        <a:graphic>
          <a:graphicData uri="http://schemas.openxmlformats.org/drawingml/2006/table">
            <a:tbl>
              <a:tblPr/>
              <a:tblGrid>
                <a:gridCol w="4978440"/>
                <a:gridCol w="1401840"/>
                <a:gridCol w="1298520"/>
                <a:gridCol w="1160640"/>
              </a:tblGrid>
              <a:tr h="741600"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 01.01.201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 01.01.201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 01.01.2013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рплата с начислени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04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лата коммунальных услу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3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7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5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чие расходы ст.290 (плата за негативное воздействие на окружающую сред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ьготные коммунальные услу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ч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6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6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902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ъекты капитального строитель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10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  КРЕДИТОРСКАЯ задолж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92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517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385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8178840" y="152280"/>
            <a:ext cx="7542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228600" y="152280"/>
            <a:ext cx="6400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юджет муниципального образования "Вавожский район"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Rectangle 96"/>
          <p:cNvSpPr/>
          <p:nvPr/>
        </p:nvSpPr>
        <p:spPr>
          <a:xfrm>
            <a:off x="304920" y="1015560"/>
            <a:ext cx="87105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ниципальный долг на 01.01.2012 года   972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ыс.руб. , в т.ч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диты                                     -                       9729 тыс. руб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товарный кредит 1996 г СХП    609 т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бюджетный кредит                   9120 т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униципальные гарантии       -                            0 тыс.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ниципальный долг на 01.01.2013 года   942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с.руб. , в т.ч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диты                                     -                       9428 тыс. руб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товарный кредит 1996 г СХП    308 т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бюджетный кредит                   9120 т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униципальные гарантии       -                           0 тыс.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ый долг МО «Вавожский район» снизился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гашено кредитов                                                                218 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ано кредитов                                                                     83  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т бюджетных кредитов, предоставл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м лицам, из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го района                                                        205   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9360" y="289440"/>
            <a:ext cx="91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нение муниципальных целевых программ в 2012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838080"/>
          <a:ext cx="8839440" cy="5399280"/>
        </p:xfrm>
        <a:graphic>
          <a:graphicData uri="http://schemas.openxmlformats.org/drawingml/2006/table">
            <a:tbl>
              <a:tblPr/>
              <a:tblGrid>
                <a:gridCol w="6621480"/>
                <a:gridCol w="998640"/>
                <a:gridCol w="1219320"/>
              </a:tblGrid>
              <a:tr h="214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стать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на 01.01.20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ые программы муниципальных образова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0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программа муниципального образования "Вавожский район" "Безопасность образовательного учреждения"  ( 2010 -2014 годы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00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целевая программа "Детское и школьное питание" на 2010 -2014 годы муниципалного образования "Вавожский район"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00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целевая программа "Профилактика терроризма и экстремизма в Вавожском районе" на 2010 - 2012 г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00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целевая программа  улучшения условий и охраны труда на 2011 - 2013 годы в мунипальном образовании "Вавожский район"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00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целевая программа "Энергосбережение и повышение энергетической эффективности муниципального образования "Вавожский район" Удмуртской Республики на 2010-2014 годы и целевые установки до 2020 года"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0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целевая программа "Патриотическое воспитание граждан Российской Федерации, проживающих на территории Вавожского района" на 2010 -2014 г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0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муниципального образования "Вавожский район " по  противодействию и предупреждению преступности на 2010-2014 г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0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целевая программа "Повышение эффективности расходов бюджета муниципального образования "Вавожский район"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0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52280" y="152280"/>
          <a:ext cx="8766360" cy="5923080"/>
        </p:xfrm>
        <a:graphic>
          <a:graphicData uri="http://schemas.openxmlformats.org/drawingml/2006/table">
            <a:tbl>
              <a:tblPr/>
              <a:tblGrid>
                <a:gridCol w="7259760"/>
                <a:gridCol w="1506600"/>
              </a:tblGrid>
              <a:tr h="12207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ий объем бюджетных ассигнований, направляемых на исполнение публичных нормативных обязательств в 2012 го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ыс.руб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латы к пенсиям государственных служащих субъектов Российской Федерации и муниципальных служащ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ы гражданам, имеющим звание "Почетный гражданин Вавожского района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6500880"/>
        </p:xfrm>
        <a:graphic>
          <a:graphicData uri="http://schemas.openxmlformats.org/drawingml/2006/table">
            <a:tbl>
              <a:tblPr/>
              <a:tblGrid>
                <a:gridCol w="914400"/>
                <a:gridCol w="5821200"/>
                <a:gridCol w="2408400"/>
              </a:tblGrid>
              <a:tr h="91440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 передаваемые бюджету МО "Вавожский район" из бюджетов поселений на осуществление части полномочий по решению вопросов местного значения  в 2012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ыс.руб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се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волков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ызгалов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вож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зимоньи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ипельги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резь-Пудги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ямбайгурт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мож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юрдор-Котьи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ловыл-Пельги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26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9144000" cy="6551640"/>
        </p:xfrm>
        <a:graphic>
          <a:graphicData uri="http://schemas.openxmlformats.org/drawingml/2006/table">
            <a:tbl>
              <a:tblPr/>
              <a:tblGrid>
                <a:gridCol w="565200"/>
                <a:gridCol w="2635200"/>
                <a:gridCol w="1600200"/>
                <a:gridCol w="2819520"/>
                <a:gridCol w="1523880"/>
              </a:tblGrid>
              <a:tr h="7794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из Районного фонда финансов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держки поселений в 201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ыс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9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се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я всего исполн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я по расчету и предоставлению дотаций поселениям за счет средств бюджета Удмуртской Республик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я из бюджета муниципального рай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волков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ызгалов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вож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зимоньин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ипельгин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резь-Пудгин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ямбайгурт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мож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юрдор-Котьин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ловыл-Пельгин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28600" y="1371600"/>
          <a:ext cx="8686800" cy="4367160"/>
        </p:xfrm>
        <a:graphic>
          <a:graphicData uri="http://schemas.openxmlformats.org/drawingml/2006/table">
            <a:tbl>
              <a:tblPr/>
              <a:tblGrid>
                <a:gridCol w="1447920"/>
                <a:gridCol w="4459320"/>
                <a:gridCol w="1447560"/>
                <a:gridCol w="1332000"/>
              </a:tblGrid>
              <a:tr h="631800">
                <a:tc rowSpan="2"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0" rIns="64800" tIns="0" bIns="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заимств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marL="271440" indent="-271440" algn="just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лечение в 2012 г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052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в 2012 г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marL="272880" indent="-272880" algn="just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кредиты, полученные из бюджета Удмуртской Республ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"/>
          <p:cNvSpPr/>
          <p:nvPr/>
        </p:nvSpPr>
        <p:spPr>
          <a:xfrm>
            <a:off x="0" y="5400"/>
            <a:ext cx="91440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68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ормация о выполнении Программы муниципа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нутренних заимствований муниципального образования «Вавожский район»  за 201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тыс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8178840" y="152280"/>
            <a:ext cx="754200" cy="1143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228600" y="152280"/>
            <a:ext cx="6400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юджет муниципального образования "Вавожский район"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380880" y="533520"/>
            <a:ext cx="7543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нение по доходам за 2012 год (без поселений) (тыс.руб.)       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447920"/>
          <a:ext cx="8763120" cy="5029200"/>
        </p:xfrm>
        <a:graphic>
          <a:graphicData uri="http://schemas.openxmlformats.org/drawingml/2006/table">
            <a:tbl>
              <a:tblPr/>
              <a:tblGrid>
                <a:gridCol w="3790800"/>
                <a:gridCol w="1159200"/>
                <a:gridCol w="1082520"/>
                <a:gridCol w="1082520"/>
                <a:gridCol w="1082880"/>
                <a:gridCol w="565200"/>
              </a:tblGrid>
              <a:tr h="69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с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% исполне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тклонение +/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Уд. 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алоговые и 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54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731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+186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отац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38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38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отация из ФФП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63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63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отация на обесп. сбаланс. бюдж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72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72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рочие до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убси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198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198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убв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792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776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1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ые межбюджетные трансфер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665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652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12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рочие 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5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5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озв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того безвозмезд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07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028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49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того до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6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760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7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90720" y="228600"/>
          <a:ext cx="6781680" cy="6638760"/>
        </p:xfrm>
        <a:graphic>
          <a:graphicData uri="http://schemas.openxmlformats.org/drawingml/2006/table">
            <a:tbl>
              <a:tblPr/>
              <a:tblGrid>
                <a:gridCol w="801720"/>
                <a:gridCol w="3554280"/>
                <a:gridCol w="2425680"/>
              </a:tblGrid>
              <a:tr h="863640">
                <a:tc gridSpan="3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ие субвенций на осуществление  первичного воинского учета на территориях, где отсутствуют военные комиссариаты  в 201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ыс.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8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се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я на осуществление  первичного воинского учета на территориях, где отсутствуют военные комиссариаты  за 201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еволков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657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ызгалов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229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вож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,267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зимоньин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506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ипельгин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068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резь-Пудгин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969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ямбайгурт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316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мож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15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юрдор-Котьин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36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ловыл-Пельгин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66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6,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8153280" y="228600"/>
            <a:ext cx="7542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gerb_ur[1]"/>
          <p:cNvPicPr/>
          <p:nvPr/>
        </p:nvPicPr>
        <p:blipFill>
          <a:blip r:embed="rId3"/>
          <a:stretch/>
        </p:blipFill>
        <p:spPr>
          <a:xfrm>
            <a:off x="228600" y="228600"/>
            <a:ext cx="1066680" cy="1060560"/>
          </a:xfrm>
          <a:prstGeom prst="rect">
            <a:avLst/>
          </a:prstGeom>
          <a:ln w="0">
            <a:noFill/>
          </a:ln>
        </p:spPr>
      </p:pic>
      <p:sp>
        <p:nvSpPr>
          <p:cNvPr id="117" name="WordArt 5"/>
          <p:cNvSpPr txBox="1"/>
          <p:nvPr/>
        </p:nvSpPr>
        <p:spPr>
          <a:xfrm>
            <a:off x="3352680" y="6400800"/>
            <a:ext cx="2133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авож 2013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152280" y="3048120"/>
            <a:ext cx="8763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СПАСИБО ЗА ВНИМАНИЕ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9" name="WordArt 9"/>
          <p:cNvSpPr txBox="1"/>
          <p:nvPr/>
        </p:nvSpPr>
        <p:spPr>
          <a:xfrm>
            <a:off x="1447920" y="228600"/>
            <a:ext cx="6476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07678" dir="18908128" blurRad="0" rotWithShape="0">
                    <a:srgbClr val="333333">
                      <a:alpha val="50000"/>
                    </a:srgbClr>
                  </a:outerShdw>
                </a:effectLst>
                <a:latin typeface="Impact"/>
              </a:rPr>
              <a:t>Вавожский район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107678" dir="18908128" blurRad="0" rotWithShape="0">
                  <a:srgbClr val="333333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4" descr="1_1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8153280" y="228600"/>
            <a:ext cx="75420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gerb_ur[1]"/>
          <p:cNvPicPr/>
          <p:nvPr/>
        </p:nvPicPr>
        <p:blipFill>
          <a:blip r:embed="rId3"/>
          <a:stretch/>
        </p:blipFill>
        <p:spPr>
          <a:xfrm>
            <a:off x="228600" y="228600"/>
            <a:ext cx="1066680" cy="10605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10"/>
          <p:cNvSpPr txBox="1"/>
          <p:nvPr/>
        </p:nvSpPr>
        <p:spPr>
          <a:xfrm>
            <a:off x="3352680" y="6400800"/>
            <a:ext cx="2133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авож 2013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15"/>
          <p:cNvSpPr txBox="1"/>
          <p:nvPr/>
        </p:nvSpPr>
        <p:spPr>
          <a:xfrm>
            <a:off x="457200" y="2514600"/>
            <a:ext cx="8381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07678" dir="18908128" blurRad="0" rotWithShape="0">
                    <a:srgbClr val="333333">
                      <a:alpha val="50000"/>
                    </a:srgbClr>
                  </a:outerShdw>
                </a:effectLst>
                <a:latin typeface="Impact"/>
              </a:rPr>
              <a:t>Вавожский район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107678" dir="18908128" blurRad="0" rotWithShape="0">
                  <a:srgbClr val="333333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178840" y="152280"/>
            <a:ext cx="754200" cy="1143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3"/>
          <p:cNvSpPr txBox="1"/>
          <p:nvPr/>
        </p:nvSpPr>
        <p:spPr>
          <a:xfrm>
            <a:off x="228600" y="152280"/>
            <a:ext cx="6400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юджет муниципального образования "Вавожский район"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80880" y="533520"/>
            <a:ext cx="7543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полнительные безвозмездные 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ступления за 2012 год (тыс. руб.)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265400"/>
          <a:ext cx="8686800" cy="5418000"/>
        </p:xfrm>
        <a:graphic>
          <a:graphicData uri="http://schemas.openxmlformats.org/drawingml/2006/table">
            <a:tbl>
              <a:tblPr/>
              <a:tblGrid>
                <a:gridCol w="7388280"/>
                <a:gridCol w="1298520"/>
              </a:tblGrid>
              <a:tr h="3283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истерство финан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40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итет по делам ЗАГС при Правительстве 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вное Управление ветерин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ция Президента и Правительства 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  МЧС по 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. Строительства, архитектуры и жилищной полит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03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. Здравоохра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4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промэнер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. Сельх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.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3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.соцзащи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. Торговли (питание школь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истерство по делам молод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топп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равление ОДМС (Составление списков в присяжные заседател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сударственное Управление  МЧС по У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истерство имуществен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истерство транспорта и дорожного хозя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97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8178840" y="152280"/>
            <a:ext cx="7542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3"/>
          <p:cNvSpPr txBox="1"/>
          <p:nvPr/>
        </p:nvSpPr>
        <p:spPr>
          <a:xfrm>
            <a:off x="228600" y="152280"/>
            <a:ext cx="6400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юджет муниципального образования "Вавожский район"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380880" y="609480"/>
            <a:ext cx="7543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нение расходов по отраслям  за 2012 год   (без поселений)  тыс.руб. 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295280"/>
          <a:ext cx="8704440" cy="5497560"/>
        </p:xfrm>
        <a:graphic>
          <a:graphicData uri="http://schemas.openxmlformats.org/drawingml/2006/table">
            <a:tbl>
              <a:tblPr/>
              <a:tblGrid>
                <a:gridCol w="409680"/>
                <a:gridCol w="528480"/>
                <a:gridCol w="3551400"/>
                <a:gridCol w="1057320"/>
                <a:gridCol w="920520"/>
                <a:gridCol w="920880"/>
                <a:gridCol w="658800"/>
                <a:gridCol w="657360"/>
              </a:tblGrid>
              <a:tr h="79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сход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2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 на 01.01.2013 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309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67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2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6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70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29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25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34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1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и кинематограф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0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0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оохран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14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692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608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12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8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8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94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6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723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2839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9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5"/>
          <p:cNvSpPr txBox="1"/>
          <p:nvPr/>
        </p:nvSpPr>
        <p:spPr>
          <a:xfrm>
            <a:off x="0" y="685800"/>
            <a:ext cx="9144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ходы бюджет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 «Вавожский район»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2012 г. (%) (в разрезе статей расходов)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228600" y="152280"/>
            <a:ext cx="6400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юджет муниципального образования "Вавожский район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914400" y="1676520"/>
          <a:ext cx="7543800" cy="499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75438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"/>
          <p:cNvPicPr/>
          <p:nvPr/>
        </p:nvPicPr>
        <p:blipFill>
          <a:blip r:embed="rId5"/>
          <a:stretch/>
        </p:blipFill>
        <p:spPr>
          <a:xfrm>
            <a:off x="8178840" y="152280"/>
            <a:ext cx="754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8178840" y="152280"/>
            <a:ext cx="754200" cy="1143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228600" y="152280"/>
            <a:ext cx="6400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юджет муниципального образования "Вавожский район"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152280" y="533520"/>
            <a:ext cx="7772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ходы бюджета муниципального образования «Вавожский район» за 2012 год. (тыс.руб.)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1095480"/>
          <a:ext cx="8839440" cy="5762520"/>
        </p:xfrm>
        <a:graphic>
          <a:graphicData uri="http://schemas.openxmlformats.org/drawingml/2006/table">
            <a:tbl>
              <a:tblPr/>
              <a:tblGrid>
                <a:gridCol w="5292720"/>
                <a:gridCol w="1305000"/>
                <a:gridCol w="1149480"/>
                <a:gridCol w="1092240"/>
              </a:tblGrid>
              <a:tr h="594360"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лан уточненный тыс.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сполнено   тыс.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д.вес в структуре расходов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рплата с начислен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16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08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ммунальные расходы ст.223 + 34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9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8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08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ьготные коммунальные специалист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5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мпенсация за книгоиздательскую продук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дика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дукты питания (местный бюдж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ЦП "Детское питание" (продукты пит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тний отдых детей, ЦРП меры соц.поддержки по освобожд.от род платы (продукты пит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слуги свя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анспортные услуги, Г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6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питальный и текущий ремонт ст.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27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17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ительство и реконструкция ст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6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.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6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5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бвенция по предоставлению мер социальной поддержки многодетным семь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т.ч.    учет и регистр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дика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з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и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лата коммунальных усл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178840" y="152280"/>
            <a:ext cx="754200" cy="1143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3"/>
          <p:cNvSpPr txBox="1"/>
          <p:nvPr/>
        </p:nvSpPr>
        <p:spPr>
          <a:xfrm>
            <a:off x="228600" y="152280"/>
            <a:ext cx="6400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юджет муниципального образования "Вавожский район"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152280" y="533520"/>
            <a:ext cx="7772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ходы бюджета муниципального образования «Вавожский район» за 2012 год. (тыс.руб.)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152280" y="1143000"/>
            <a:ext cx="2590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должение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8600" y="1384200"/>
          <a:ext cx="8704440" cy="5473800"/>
        </p:xfrm>
        <a:graphic>
          <a:graphicData uri="http://schemas.openxmlformats.org/drawingml/2006/table">
            <a:tbl>
              <a:tblPr/>
              <a:tblGrid>
                <a:gridCol w="5105520"/>
                <a:gridCol w="1371600"/>
                <a:gridCol w="1218960"/>
                <a:gridCol w="1008360"/>
              </a:tblGrid>
              <a:tr h="594000"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лан уточненный тыс.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сполнено   тыс.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д.вес в структуре расходов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бсидии населению на оплату жилья и ком.усл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роприятия по физической культуре и спор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собия на детей, находящихся под опе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платы единовременного пособия при всех формах устройства детей, лишенных родительского попечения, в семью. Содержание ребенка в приемной сем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п.рем.жил.фо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мпенсация платы за содержание детей в Д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служивание муниципального дол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5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илье ветеранам и детям- сирот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5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5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дбавка к пенсиям, соцгарантия ,Ст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лог на имущество ст.2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0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0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нцелярские 34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9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8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.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9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того рас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63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49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ч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3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 рас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6723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283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8178840" y="152280"/>
            <a:ext cx="75420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228600" y="152280"/>
            <a:ext cx="6400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юджет муниципального образования "Вавожский район"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228600" y="6858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ходы консолидированного бюджет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 «Вавожский район»  за 2007-2012 годы (млн. руб.)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1066680" y="1447920"/>
            <a:ext cx="650088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8178840" y="152280"/>
            <a:ext cx="75420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3"/>
          <p:cNvSpPr txBox="1"/>
          <p:nvPr/>
        </p:nvSpPr>
        <p:spPr>
          <a:xfrm>
            <a:off x="228600" y="152280"/>
            <a:ext cx="6400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юджет муниципального образования "Вавожский район"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81" name="Object 7"/>
          <p:cNvGraphicFramePr/>
          <p:nvPr/>
        </p:nvGraphicFramePr>
        <p:xfrm>
          <a:off x="147600" y="1380960"/>
          <a:ext cx="884880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2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00" y="1380960"/>
                    <a:ext cx="88488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WordArt 7"/>
          <p:cNvSpPr txBox="1"/>
          <p:nvPr/>
        </p:nvSpPr>
        <p:spPr>
          <a:xfrm>
            <a:off x="228600" y="6858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ходы в расчете на 1 жителя района (руб.)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4T04:34:51Z</dcterms:modified>
  <cp:revision>2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